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858-FC66-44BE-9578-5F4CD1BD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59A-A064-4BAF-9875-FA903C26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3E7-D864-464A-AA83-18E2A528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F71-F671-4278-AFE1-FFEC92B4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9A9C-D13B-4F0A-86B1-5215ED40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0A5-509C-48D2-B0D7-42B543A1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078-8334-45BF-ADA8-8EDCE1E7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3B5-FDBA-4ED3-AC47-AF354CCF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E977-A19D-4D39-B211-25A5A683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FFB-DA56-46E0-B452-4F1FB304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DB2-5FC8-4A84-91EE-96537D4A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C78-A892-4FC1-8A1C-C112F605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F587-7E3C-4E1E-ABCD-260211BAF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www.freeplaymusic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eb.mit.edu/invent/iow/slinky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914400"/>
            <a:ext cx="58672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E SLINKY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3733920"/>
            <a:ext cx="3276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 Black"/>
              </a:rPr>
              <a:t>Mel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 Black"/>
              </a:rPr>
              <a:t>Monday, September 27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 Black"/>
              </a:rPr>
              <a:t>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 Black"/>
              </a:rPr>
              <a:t>Computer #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562720"/>
            <a:ext cx="5181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p Hop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/4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56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ichard J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James was born in Philadelph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once sold 400 slinkys in just 90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lso invented machines that could coil 80 feet of steel wire into a slinky in just 10 seco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did not mean to create the slinky in the first place, it was all an acc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 he invented the Slinky, he did not name it, his wife d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5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564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33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The Slin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linky came out by accid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linky was invented in 194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5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niversary of Slinkys (1995), Richard James had sold over a quarter of a billion Slink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A used slinkys in zero-gravity physics experiments in the space shu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troops in Vietnam  used slinkys to demonstrate them as mobile radio antenn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056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Slinky"/>
          <p:cNvPicPr/>
          <p:nvPr/>
        </p:nvPicPr>
        <p:blipFill>
          <a:blip r:embed="rId1"/>
          <a:stretch/>
        </p:blipFill>
        <p:spPr>
          <a:xfrm>
            <a:off x="1143000" y="1066680"/>
            <a:ext cx="5181480" cy="4040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59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 Slinkys, Sept. 29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slink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30564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2Z</dcterms:created>
  <dc:creator>install</dc:creator>
  <dc:description/>
  <dc:language>en-US</dc:language>
  <cp:lastModifiedBy>install</cp:lastModifiedBy>
  <dcterms:modified xsi:type="dcterms:W3CDTF">2010-10-13T17:50:52Z</dcterms:modified>
  <cp:revision>14</cp:revision>
  <dc:subject/>
  <dc:title>Slide 1</dc:title>
</cp:coreProperties>
</file>